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68F-8686-4441-8BE6-D163A719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35A-A5ED-4EC1-BE3E-17E2155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D64-0197-456E-90F2-FE290B41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EA8-3A35-4631-8FB7-68401870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B96-D481-4F9C-B564-C1599910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CB7-7246-42EF-9366-3D8D11CC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992-2F2F-4108-97B1-1726965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16F-DF99-440B-B6EF-78A92A57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6C9-D798-40FB-85AF-B9B2A35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081-5BA9-4DAF-A06D-0F8AA2BB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D97-B147-452A-8540-4CF14F1C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31E-7BCE-43D0-B058-90C018D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8CE-3660-4EE0-AD29-8C64409E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68010NdkkKZEqsF_ph" descr=""/>
          <p:cNvPicPr/>
          <p:nvPr/>
        </p:nvPicPr>
        <p:blipFill>
          <a:blip r:embed="rId1"/>
          <a:stretch/>
        </p:blipFill>
        <p:spPr>
          <a:xfrm>
            <a:off x="-335268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304920"/>
            <a:ext cx="327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عتمادِكَ يا ربّ في نهرِ الأردن، ظهرَ السجودُ للثالوث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254350zDFGKi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81680" y="304920"/>
            <a:ext cx="20574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إنَّ صوتَ الآبِ كان يشهدُ لك، مُسَمِّياً إيَّاكَ ابناً محبوباً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6280134MxDDpx_ph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457200"/>
            <a:ext cx="236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بهيئةِ حمامة يُؤيِّدُ حقيقةَ الكلمة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1655244OiypAPuOSV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0"/>
            <a:ext cx="1905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ا من ظهرَ وأنارَ العالم، أيها المسيحُ الإلهُ المجدُ ل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42:12Z</dcterms:created>
  <dc:creator>SUZANNE.MD</dc:creator>
  <dc:description/>
  <dc:language>en-US</dc:language>
  <cp:lastModifiedBy>USER</cp:lastModifiedBy>
  <dcterms:modified xsi:type="dcterms:W3CDTF">2003-01-07T16:12:32Z</dcterms:modified>
  <cp:revision>3</cp:revision>
  <dc:subject/>
  <dc:title>PowerPoint Presentation</dc:title>
</cp:coreProperties>
</file>